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7F2-4371-413E-97DF-984E5957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FAF-5991-4667-B44F-5021E1F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C82-767B-48D8-BFAF-890D7659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072-A2C1-4E7E-AA00-3ABB09E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5D7-9D68-415E-84CF-C2DBEE7C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111-B4A6-48B9-A4D6-8BD715AA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5667-3E26-4B3B-BDF5-83CB3E3D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5584-6E94-4625-917A-BFAAF5D5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EDD1-6FF3-4F22-AE13-56DD9C5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58840"/>
            <a:ext cx="83822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7AF-B267-4F0B-BAFB-497A12B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77B-2ED5-4E24-86D8-2EBC71A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DFE-85F4-4E30-9095-8487745E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41D1-0C42-4C0E-A790-A1F632C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5369-0EEA-49D4-ABA2-980BA49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1F46-DE06-40AA-B090-C4DA69C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572-C6C3-4C3A-AE7D-CF745F5C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376A-4CA6-47F2-93A2-923F8C37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25D-4013-4139-ABDB-4714424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D19-E52F-4CB0-A7D2-8E856FE5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F82-730B-4F56-BD81-1BA87F8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8840"/>
            <a:ext cx="83822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9E1-E86A-4FD3-9089-2F9D94F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39B-C53F-409C-8AED-43A8036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BBC-39FF-4778-9EE1-9533A5E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270-04A5-4C96-89D8-E6B96357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023-A807-4507-A9E8-662893C58AFC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462-5A13-4FAD-8D3E-38132EDB4C1D}" type="slidenum">
              <a:rPr b="0" lang="ar-SA" sz="1000" spc="-1" strike="noStrike">
                <a:solidFill>
                  <a:srgbClr val="f37f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مستطيل 2" descr=""/>
          <p:cNvPicPr/>
          <p:nvPr/>
        </p:nvPicPr>
        <p:blipFill>
          <a:blip r:embed="rId1"/>
          <a:stretch/>
        </p:blipFill>
        <p:spPr>
          <a:xfrm>
            <a:off x="1847880" y="1292400"/>
            <a:ext cx="5192640" cy="10490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6" descr=""/>
          <p:cNvPicPr/>
          <p:nvPr/>
        </p:nvPicPr>
        <p:blipFill>
          <a:blip r:embed="rId2"/>
          <a:stretch/>
        </p:blipFill>
        <p:spPr>
          <a:xfrm>
            <a:off x="1504800" y="2378160"/>
            <a:ext cx="6280200" cy="4486320"/>
          </a:xfrm>
          <a:prstGeom prst="rect">
            <a:avLst/>
          </a:prstGeom>
          <a:ln w="0">
            <a:noFill/>
          </a:ln>
        </p:spPr>
      </p:pic>
      <p:pic>
        <p:nvPicPr>
          <p:cNvPr id="84" name="اهات حلو.mp3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1195560" y="-237960"/>
            <a:ext cx="69055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1000080" y="1292400"/>
            <a:ext cx="7083360" cy="4638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047600" y="987480"/>
            <a:ext cx="71391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3" descr=""/>
          <p:cNvPicPr/>
          <p:nvPr/>
        </p:nvPicPr>
        <p:blipFill>
          <a:blip r:embed="rId1"/>
          <a:stretch/>
        </p:blipFill>
        <p:spPr>
          <a:xfrm>
            <a:off x="1579680" y="1212840"/>
            <a:ext cx="58942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1047600" y="1822320"/>
            <a:ext cx="71154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19" descr=""/>
          <p:cNvPicPr/>
          <p:nvPr/>
        </p:nvPicPr>
        <p:blipFill>
          <a:blip r:embed="rId1"/>
          <a:stretch/>
        </p:blipFill>
        <p:spPr>
          <a:xfrm>
            <a:off x="2109960" y="1060560"/>
            <a:ext cx="49194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1:43:45Z</dcterms:created>
  <dc:creator>user</dc:creator>
  <dc:description/>
  <dc:language>en-US</dc:language>
  <cp:lastModifiedBy>لا تنس ذكر الله</cp:lastModifiedBy>
  <dcterms:modified xsi:type="dcterms:W3CDTF">2010-10-23T22:23:23Z</dcterms:modified>
  <cp:revision>222</cp:revision>
  <dc:subject/>
  <dc:title>الشريحة 1</dc:title>
</cp:coreProperties>
</file>